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F80-7707-44D7-A727-BC846E6B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32F-2C21-4047-AB69-A955201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A72-DD45-4F2E-B864-8C7C0279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E11-2A2F-4A73-89C7-8B1CCCAB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D9E-46A7-4B54-91C3-49601A2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292-B4C9-4F70-B2E2-8A85982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D79-CB41-4E8F-B32D-F5CF917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3C3-B0B0-4374-AEB2-0B30AB6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B41-31E0-4D4E-9B11-04D6392B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10E-F017-4D55-BA14-3FB58B9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D73-A034-4A05-A3BA-9A55138D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B6F-D0FC-4686-970A-80924C7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0B93-5A45-4638-B207-A30BB51A3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owed manufacturer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ir factories away from 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stea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 Shirtwa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lman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 Shirtwa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ade it possible to construct skyscraper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semer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safet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ap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ade it possible to construct skyscraper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semer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safet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industrial consolidation and trusts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late 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industrial consolidation and trusts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late 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contributed to the immense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m of the early 1900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contributed to the immense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m of the early 1900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w Carnegie gained control of a large percenta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eel industry by doing all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ting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ing ou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g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elling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w Carnegie gained control of a large percenta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eel industry by doing all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ting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ing ou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 Strike of 1877 took place in which indu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 Strike of 1877 took place in which indu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ve bargaining was a techniqu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t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workers’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ve bargaining was a techniqu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workers’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e of standard time zones was introduced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grap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e of standard time zones was introduced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grap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Darwinism was used to justify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lio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ccess of 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Darwinism was used to justify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state Commerce Act gave the right to superv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activit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offic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state Commerce Act gave the right to superv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activit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was Pullman, Illinois, an unusual t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pecializ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had one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ow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owed its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was Pullman, Illinois, an unusual t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pecializ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ow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purpose of the company know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t Mobilier wa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l money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contin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tain a monop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political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purpose of the company know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t Mobilier wa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l money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contin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union hoped to use a series of small and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to overthrow the capitalistic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Lab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ghts 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union hoped to use a series of small and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to overthrow the capitalistic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owed manufacturer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ir factories away from 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l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1-28T21:53:58Z</dcterms:modified>
  <cp:revision>207</cp:revision>
  <dc:subject/>
  <dc:title>PowerPoint Presentation</dc:title>
</cp:coreProperties>
</file>